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248D2-3AD1-4838-A0E8-A64CD1AD1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A2CA1-9A5D-4432-9B59-26D763AD1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79E35-AA3B-4D6D-AEB7-4D5EBB726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FADB7-FCD7-471D-B311-27B577652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68AD4-C22C-4D0A-B20E-97E417392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A463E-8813-49D8-9AFD-A06BC9EC7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3CC6C-7155-4E76-BE11-FF7AB46F2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A8FA3-C6F7-4D2C-A9F2-9B6819349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259E8-8A01-4BF4-9908-929826D71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D8537-648F-429F-9233-72ABC7F42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F80A8-E6DB-4CB2-B4B5-EE39FEF94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31262-6DDF-4DCD-AF81-7C8E0C0A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3190D-A98E-4199-B0D7-DDC1291F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EB4E5-377C-4DEE-BCFE-03A469CA1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42425-E2F1-465D-9A99-DD6C44FDB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A9AA9-D0A1-435A-AFE2-832583B5F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CFA16-2BDD-4D7E-9A95-F2DA332A9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95FF-4513-4EEC-A1B3-301611B7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A218-6822-4944-819D-8B98F7B49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1E817-3FBA-4F53-88B6-10E688826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0059-0555-41D0-B703-F956AB5E3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6CAD-F0AB-4736-8DD4-699DA746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88DC-8FA6-4F6C-A8F1-BE5547BA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F7D6D-1AEF-46EF-BBAF-9DACB6043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0A94-8ED3-4A93-9EB9-E4E4AF5271F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003D-B368-46B1-AE77-619BDB4851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EED0-5F53-4054-B6DC-7EAE8E1A9C34}"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948F-8CC6-4656-A2BB-131B0602C4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Rectangle 7"/>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E8D3-239C-484A-8450-DC279339E5F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89"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8F32-70BA-4D87-9185-53738D9BC1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1" name="Rectangle 7"/>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FDE5-BF6E-4312-A059-13541FC89053}"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92" name="Rectangle 8"/>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3"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CE32-EC54-4E46-83FD-7282CDA1A6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66"/>
                </a:solidFill>
                <a:latin typeface="Arial"/>
              </a:rPr>
              <a:t>Registro Público de Administradores</a:t>
            </a:r>
            <a:endParaRPr b="0" lang="en-US" sz="4000" spc="-1" strike="noStrike">
              <a:solidFill>
                <a:srgbClr val="ffcc66"/>
              </a:solidFill>
              <a:latin typeface="Arial"/>
            </a:endParaRPr>
          </a:p>
        </p:txBody>
      </p:sp>
      <p:sp>
        <p:nvSpPr>
          <p:cNvPr id="95"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Jornada Consorcios 22/11/2011</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Dr. Leopoldo Gurovi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525</a:t>
            </a:r>
            <a:endParaRPr b="0" lang="en-US" sz="4400" spc="-1" strike="noStrike">
              <a:solidFill>
                <a:srgbClr val="ffcc66"/>
              </a:solidFill>
              <a:latin typeface="Arial"/>
            </a:endParaRPr>
          </a:p>
        </p:txBody>
      </p:sp>
      <p:sp>
        <p:nvSpPr>
          <p:cNvPr id="1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Medida Cautela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84D0-6D6B-45BF-AB54-5E90575C193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4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4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12DF-B472-4E65-93CE-4BAB5855B1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2092</a:t>
            </a:r>
            <a:endParaRPr b="0" lang="en-US" sz="4400" spc="-1" strike="noStrike">
              <a:solidFill>
                <a:srgbClr val="ffcc66"/>
              </a:solidFill>
              <a:latin typeface="Arial"/>
            </a:endParaRPr>
          </a:p>
        </p:txBody>
      </p:sp>
      <p:sp>
        <p:nvSpPr>
          <p:cNvPr id="145" name=""/>
          <p:cNvSpPr txBox="1"/>
          <p:nvPr/>
        </p:nvSpPr>
        <p:spPr>
          <a:xfrm>
            <a:off x="714240" y="19288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ículo 1°.- suspéndase los efectos de la Disposición N°: 525/DGDYPC/201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778B-D440-4F64-B573-B1E0231CE486}"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4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4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EA0E-5494-4318-8EC8-3B67651072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RG (AFIP) 3067</a:t>
            </a:r>
            <a:endParaRPr b="0" lang="en-US" sz="4400" spc="-1" strike="noStrike">
              <a:solidFill>
                <a:srgbClr val="ffcc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Factura Electrónic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DMINISTRADOR RG 3067</a:t>
            </a:r>
            <a:endParaRPr b="0" lang="en-US" sz="4400" spc="-1" strike="noStrike">
              <a:solidFill>
                <a:srgbClr val="ffcc66"/>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Monotributistas categorías H e 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Factura electrónica desde 1/5/2011</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Resto de las categorías  es volunt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6" name="Rectangle 6"/>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AB13-DCF1-41AF-9642-9CB814F1D7EE}"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97" name="Rectangle 7"/>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98" name="Rectangle 8"/>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A9EE-E4AA-4434-81E4-3FB965A178B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9"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63FB-47D8-4E7C-BBCA-3D9559425908}"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A118-8D5E-435E-A726-9E07D6E39E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Normativa</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Ley 941</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Ley 3254/3291</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Dto. 551/10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Ley 3254 Art. 12</a:t>
            </a:r>
            <a:endParaRPr b="0" lang="en-US" sz="4400" spc="-1" strike="noStrike">
              <a:solidFill>
                <a:srgbClr val="ffcc66"/>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Declaración jurada patrimonial ante el consorcio y aprobada por este, destinado a garantizar sus responsabilidades como administrador. Esta declaración podrá sustituirse por la constancia de la constitución a favor del consorcio de propietarios, a cargo del administrador, de un seguro de responsabilidad profesional emitido por una compañía de seguros. </a:t>
            </a:r>
            <a:endParaRPr b="0" lang="en-US" sz="3200" spc="-1" strike="noStrike">
              <a:solidFill>
                <a:srgbClr val="ffffff"/>
              </a:solidFill>
              <a:latin typeface="Times New Roman"/>
            </a:endParaRPr>
          </a:p>
          <a:p>
            <a:pPr marL="312120" indent="-31212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B6F0-48D7-474A-9F84-5A5A5EBAF478}"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0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0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DBD3-E7C5-45AC-A737-1ED57C46BE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6013</a:t>
            </a:r>
            <a:endParaRPr b="0" lang="en-US" sz="4400" spc="-1" strike="noStrike">
              <a:solidFill>
                <a:srgbClr val="ffcc66"/>
              </a:solidFill>
              <a:latin typeface="Arial"/>
            </a:endParaRPr>
          </a:p>
        </p:txBody>
      </p:sp>
      <p:sp>
        <p:nvSpPr>
          <p:cNvPr id="11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ículo 3º.- La declaración jurada patrimonial prevista en el articulo 12 inciso “e” de la Ley 941 modificada por la Ley 3254, deberá acreditarse de modo fehaciente ante la autoridad de aplicación antes del 30 de junio de 2010. </a:t>
            </a:r>
            <a:endParaRPr b="0" lang="en-US" sz="3200" spc="-1" strike="noStrike">
              <a:solidFill>
                <a:srgbClr val="ffffff"/>
              </a:solidFill>
              <a:latin typeface="Times New Roman"/>
            </a:endParaRPr>
          </a:p>
        </p:txBody>
      </p:sp>
      <p:sp>
        <p:nvSpPr>
          <p:cNvPr id="111"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0858-CFAF-4208-9DF6-6E2EE73A40B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1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D7F7-165A-4717-BDDA-07925D6BE0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6013</a:t>
            </a:r>
            <a:endParaRPr b="0" lang="en-US" sz="4400" spc="-1" strike="noStrike">
              <a:solidFill>
                <a:srgbClr val="ffcc66"/>
              </a:solidFill>
              <a:latin typeface="Arial"/>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ando el patrimonio neto del Administrador declarado y acreditado, sea inferior a la tercera parte de la sumatoria de las expensas de los Consorcios bajo su administración devengadas durante los últimos doce meses, deberá garantizar, mediante seguro de caución o aval bancario a sus administrados, el cumplimiento de l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064B-89E1-4BCD-871B-98F46106BF31}"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1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1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B08D-2AE5-4235-AFDF-21760F5230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6013</a:t>
            </a:r>
            <a:endParaRPr b="0" lang="en-US" sz="4400" spc="-1" strike="noStrike">
              <a:solidFill>
                <a:srgbClr val="ffcc66"/>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ligaciones derivadas de la relación contractual que los vincula. La suma asegurada de dichas garantías, para cada consorcio, no podrá ser inferior al 33% de la sumatoria de las expensas del mismo devengada durante los últimos 12 mes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7ADA-90A5-492D-818D-FD49940CAC57}"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2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2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0D9E-681A-47C8-A4AE-30C533A4D9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1423</a:t>
            </a:r>
            <a:endParaRPr b="0" lang="en-US" sz="4400" spc="-1" strike="noStrike">
              <a:solidFill>
                <a:srgbClr val="ffcc66"/>
              </a:solidFill>
              <a:latin typeface="Arial"/>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Prorroga hasta el 1° de noviembre de 2010 el plazo para que los Administradores de Consorcios cumplan con el seguro de caución que prevé el artículo 3° de la Disposición 6013 del 10/12/09.</a:t>
            </a:r>
            <a:br>
              <a:rPr sz="3200"/>
            </a:b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60F4-CF4D-496C-8664-D46E8C163616}"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2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F9B4-F7A8-409C-A50E-4A097FAF54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4481</a:t>
            </a:r>
            <a:endParaRPr b="0" lang="en-US" sz="4400" spc="-1" strike="noStrike">
              <a:solidFill>
                <a:srgbClr val="ffcc66"/>
              </a:solidFill>
              <a:latin typeface="Arial"/>
            </a:endParaRPr>
          </a:p>
        </p:txBody>
      </p:sp>
      <p:sp>
        <p:nvSpPr>
          <p:cNvPr id="13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t. 1 </a:t>
            </a:r>
            <a:r>
              <a:rPr b="0" lang="en-US" sz="3200" spc="-1" strike="noStrike">
                <a:solidFill>
                  <a:srgbClr val="ffffff"/>
                </a:solidFill>
                <a:latin typeface="Times New Roman"/>
              </a:rPr>
              <a:t>– Prorrógase, hasta el 1 de enero de 2011, el plazo para los administradores de consorcios con la obligación prevista en el art. 3 de la Disp. D.G.D. y P.C. 6.013/09.</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17EA-5C74-4F61-908E-9BCE1723AD63}"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3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B54A-E158-4D4A-99D0-3F7F84F14E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66"/>
                </a:solidFill>
                <a:latin typeface="Arial"/>
              </a:rPr>
              <a:t>Disposición (DGDYPC) 525</a:t>
            </a:r>
            <a:endParaRPr b="0" lang="en-US" sz="4400" spc="-1" strike="noStrike">
              <a:solidFill>
                <a:srgbClr val="ffcc66"/>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imes New Roman"/>
              </a:rPr>
              <a:t>Segunda parte del seguro de caución del administrador , a favor del Registro Público de Administradores, en garantía de la multa máxima en caso de incumplimiento con la ley N° 941 según texto de la ley N° 3254 y 329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3 Marcador de fecha"/>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1CB1-3574-43C4-8945-28B46C073D73}"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1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ctualización en Consorcios </a:t>
            </a:r>
            <a:endParaRPr b="0" lang="en-US" sz="1400" spc="-1" strike="noStrike">
              <a:solidFill>
                <a:srgbClr val="ffffff"/>
              </a:solidFill>
              <a:latin typeface="Times New Roman"/>
            </a:endParaRPr>
          </a:p>
        </p:txBody>
      </p:sp>
      <p:sp>
        <p:nvSpPr>
          <p:cNvPr id="13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2D0D-E25B-467A-BFB1-F69A04A39F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7T13:03:27Z</dcterms:created>
  <dc:creator>DR. LEOPOLDO GUROVICH</dc:creator>
  <dc:description/>
  <dc:language>en-US</dc:language>
  <cp:lastModifiedBy>Leopoldo Gurovich</cp:lastModifiedBy>
  <dcterms:modified xsi:type="dcterms:W3CDTF">2011-11-22T10:30:10Z</dcterms:modified>
  <cp:revision>24</cp:revision>
  <dc:subject/>
  <dc:title>REGISTRO PUBLICO DE AMINISTRADORES 27-9-11</dc:title>
</cp:coreProperties>
</file>